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636-1B03-4D54-A035-6013648E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3E2-CC6A-4892-857A-47646D83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3EB-7206-4225-9257-A07F0837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BEF-BA63-43F0-A93C-EACD8921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2CAA-E8E3-4C16-BC4E-686614C5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3BC2-72FE-4196-B98E-88B15078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9982-CE5C-443F-984F-62E129C3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0FD5-8471-4143-8027-D29CA268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D840-900F-4210-8E85-259A7405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FF80-3BB0-4434-8831-26410B82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4694-6D05-4F14-8DD6-79744B1C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9E2-0B1B-4287-A87F-69250CEB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93BF-3A92-4217-9D5C-DB3DE178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6A6C-4425-450E-B39F-586B44D5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88BD-58F2-4E22-85FE-C029C113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C76D-D751-4223-AFAD-841416F2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F9C6-A8BE-45FC-A21E-43AC18BD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0562FD-182A-4BF3-994F-43ED70A5FE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B14038-6BD8-445B-A16C-41E8A76316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31919C-1A3F-42A9-A5FB-83732CB3C2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49136B-A6F6-4BF6-B0AD-0EC82B1C00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362C4D-7213-4581-AAEB-33129FA7CF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BAE-B428-456B-BAF9-451FD0EE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D85247-12DF-48DF-937D-3154780905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511874-E611-4E55-B9CB-85E2C294C9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0F2576-82ED-4EAB-99E0-734E8FD06E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4EA8B8-012D-4885-8E77-6617F51CD9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EB3CD3-8B1E-48ED-8CB3-6B697C5F38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FA89BF-405B-4DC0-842B-83EC9015BB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4D7222-DDF5-4D57-85FC-04D08C443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CED7-FDE2-4380-A1D1-63EEB89D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FAB-214B-4D0A-85BD-4ED0C588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0D8-E80A-49B7-9555-6511AD00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346-FFF3-4EBE-B35B-6160A93C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A3B-767B-4096-9E2D-7CD762A4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24C7-96F7-4286-870A-A35E42C4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D6AA-FBCF-41EF-942B-B27B4B338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252A-3ABF-4E6E-AF57-BFCD1D5DB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59CB-F6C3-4371-A09C-EB0CB152172D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0066"/>
                </a:solidFill>
                <a:latin typeface="Tahoma"/>
              </a:rPr>
              <a:t>ФИЗИКАЛНА ТЕРАПИЈА НАКОН УГРАДЊЕ ЕНДОПРОТЕЗЕ  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660066"/>
                </a:solidFill>
                <a:latin typeface="Tahoma"/>
              </a:rPr>
              <a:t> ФИЗИКАЛНА ТЕРАПИЈА НАКОН ОПЕКОТИН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9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310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12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одела ендопротез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ма начину фиксације деле се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1. цемент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2. бесцемент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3. хибридн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цементно фиксирана феморална компонента и безцементно фиксирана ацетабуларна компонет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ементна фиксација се обично примењује код старих људи (лош квалитет костију) јер имају већу шансу за прелом кости приликом уградње протез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73A4-2EAF-4AB4-AC36-9A734CD781E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Подела ендопротез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. Бесцеметне</a:t>
            </a: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ендопротез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 уграђују млађим пацијентима (са добрим квалитетом кости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мају храпав и порозан  контакт између ендопротезе и лежишта, фиксира се урастањем коштаног ткива на површину ендопротезе. Обично дуже трају од цементни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. Цементне ендопротезе-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арији пацијенти (лош квалитет костију, ОП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већи недостатак цементних ендопротеза је оштећење лежишта након дугог низа година коришће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B9A7-5DDA-4A38-BC17-F335DA2C9B5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Подела ендопротез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Хибридне ендопротез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код ових ендопротеза једна компонента (обично феморална) се фиксира помоћу коштаног цемента, а друга (обично ацетабуларна) се фиксира бесцемент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вај тип фиксације се најчешће примењује код младих и физички активнијих пацијената (мањи је губитак кости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34CA-F8DE-4A1C-AD33-CFE7A52BFF4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Ендопротезе ку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6212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сечно време трајања ендопротезе је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око 15 год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одинама поједини делови ендопротезе могу да се разлабаве (што код пацијента проузрокује болове при кретању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акође долази до трошења материјала и неправилног оптерећења зглоб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о дође до разлабављења индиковано је поновно оперативно лечење (нестабилна компонента се замени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аветује се 1х годишње контролни преглед ортопеда са  РТГ карлице са оба ку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6AD7-2A68-49C7-9248-E1E89E947B3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ИНДИКАЦ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НЕТРАУМАТОЛОШКИ УЗРОЦ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7040" indent="-42516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Билатерално дегенеративно измењени кукови где је потребно бар један кук оспособити за кретањ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7040" indent="-42516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Коксартроза као последица конгениталне дисплазиј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7040" indent="-42516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Бенигни тумор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7040" indent="-42516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Системске реуматске болести (ра,сле,спондилоартропатије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ТРАУМАТОЛОШКИ УЗРОЦ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7040" indent="-42516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Тежа трауматска оштећења ацетабулум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7040" indent="-42516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Свеже субкапиталне и трансцервикалне фрактуре врата фему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7040" indent="-42516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Лоше срасле фрактуре врата фему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7040" indent="-42516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сеудоартрозе врата фему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7040" indent="-42516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еуспешни претходни оп захват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51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3338-170A-44CB-9482-FAF8F284B26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ОНТРАИНДИК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Једина апсолутна контраиндикација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је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септички артрити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 Активна инфекција (локална, системск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 недавни ИМ, нестабилна ангина, срчани застој или тешка анемија, скорашња тромбоемболи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скелетна незрелост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параплегија, квадриплеги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Релативне контраиндикациј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неуропатски (Шаркотов зглоб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немогућност кретања (која није везана за поремеђај кук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одсутност абдукторних мишића кук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прогресивни неуролошки губитак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морбидна гојазност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8D0C-6225-4575-BE8B-AFD76DA70E0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Физиотерапеутска функционална процен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Дужина</a:t>
            </a: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доњих</a:t>
            </a: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екстремитет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Обим</a:t>
            </a: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окрета</a:t>
            </a: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зглобовима</a:t>
            </a: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Д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Обим</a:t>
            </a: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екстремитет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М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Бол</a:t>
            </a: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ВАС</a:t>
            </a: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скала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Трансфер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роцен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држањ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роцен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ход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Укупан резултат рехабилитације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успешан, задовољавајући, неуспешан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6D8D-CC95-4E5A-B491-67E0D0C5077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ункционално оспособљавањ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ди до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смањења или нестанка бо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постизања оптималне функционалне амплитуде покрета оперисаног ку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јачање пелвифеморалне мускулату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коректан хо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ADC5-D7EC-4F7E-A5D4-1A233BF4AA9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ПРЕОПЕРАТИВНИ РЕХАБИЛИТАЦИОНИ ТРЕТМАН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Вежбе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дисањ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49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Вежбе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јачањ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ускулатуре: вежбе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јачање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ишић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горњих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екстремитет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трупа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започињање кхт програма преоперативно значајно умањује утицај постопертивне имобилизације на мишићну слабост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Вежбе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овећање обим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окрет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уковим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Увежбавање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ход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с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штакам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Едукациј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о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огућим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омпликацијам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ако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их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спречит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1EDD-A9E8-4C57-8121-E0144889570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остоперативна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ЕЛЕКТРОТЕРАПИЈА( ИФС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83480" indent="-48348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ИМП (НИСКОФРЕКВ. И ВИСОКОФРЕКВ.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83480" indent="-48348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УЗ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83480" indent="-48348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ТЕРМОТЕРАПИЈА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83480" indent="-48348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БИОСТИМУЛАТИВНИ  ЛАСЕР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83480" indent="-48348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ИНЕЗИТЕРАПИЈ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83480" indent="-4834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F77E-6461-4EDA-AD2B-5A4C32B9D3E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1" lang="sr-Latn-CS" sz="2400" spc="-1" strike="noStrike">
                <a:solidFill>
                  <a:srgbClr val="660066"/>
                </a:solidFill>
                <a:latin typeface="Tahoma"/>
              </a:rPr>
              <a:t>. </a:t>
            </a:r>
            <a:r>
              <a:rPr b="1" lang="fr-FR" sz="2400" spc="-1" strike="noStrike">
                <a:solidFill>
                  <a:srgbClr val="660066"/>
                </a:solidFill>
                <a:latin typeface="Tahoma"/>
              </a:rPr>
              <a:t>ФИЗИКАЛНА ТЕРАПИЈА НАКОН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УГРАДЊЕ ЕНДОПРОТЕЗА</a:t>
            </a:r>
            <a:r>
              <a:rPr b="1" lang="fr-FR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И ОПЕКОТИНА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ТЕМАТСКЕ ЦЕЛИН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Физикална терапија након уградње ендопротезе ку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Физикална терапија након уградње ендопротезе коле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Физикална терапија након уградње ендопротезе раме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Физикална терапија након опекоти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85DE-31F0-43E8-8934-64C60D03E61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инезитерапија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одржава и повећава покретљивост оп ку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држава и повећава мишићну масу  натколенице и ноге у цели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обука правилној употреби помагала за хо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обука и аутоматизација стајања и хода, као и одржавање и промена основних положаја и актив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спречавање сек.дефицита , деловање ктх на бол, релаксацију, општу кондицију, издрживост, координац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4A17-0B4A-4B65-BA93-D9DC7EDA6C2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инезитерапија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дан по о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статичке контра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активно-потпомогнут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3 дана опер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ртикализаија, почиње тротактним ходом у у помоћ две пп штаке, уз тач ослонац на оп ног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-8 недеља се носе шта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тога 1 пп штака на контралатералној стра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првог дана- абдукциони јасту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ајн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за циркулаци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15C1-10D2-4EA2-9844-0494836179A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У првих 6 недеља забрањен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Флексија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куку преко 90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Ад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кука преко средње линије те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зражена спољашња и унутрашња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рота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ку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тивна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абд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због слабости и ресекције абдуктора кука или великог трохантера па је потребно време до њиховог реституисањ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3B5A-129A-46E7-B596-8D4991598A7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660066"/>
                </a:solidFill>
                <a:latin typeface="Tahoma"/>
              </a:rPr>
              <a:t>НИЈЕ ДОЗВОЉЕНО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 Narrow"/>
              </a:rPr>
              <a:t>седење са прекрстеним ногама                 целог живо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 Narrow"/>
              </a:rPr>
              <a:t>седење на ниској столици и чучање         целог живо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 Narrow"/>
              </a:rPr>
              <a:t>нагло окретање и стајање на оперисаној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40458c"/>
                </a:solidFill>
                <a:latin typeface="Arial Narrow"/>
              </a:rPr>
              <a:t>нози или нагло пребацивање тежине       целог живо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 Narrow"/>
              </a:rPr>
              <a:t>лежање на оперисаном кук                        3 месе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 Narrow"/>
              </a:rPr>
              <a:t>купање у кади                                              3 месе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 Narrow"/>
              </a:rPr>
              <a:t>сечење ноктију на ногама                          3 месе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 Narrow"/>
              </a:rPr>
              <a:t>приближавање оперисане ноге здравој    3 месе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1389-5A4D-4A34-8514-8B7019A9680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Хидротерапија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ичко и механичко дејст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ода по Архимедовом закону смањује тежину тела, тако да се лакђе извод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мпература воде смањује спазам мишића и поправља циркулаци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ослабљених мишића већа ефикасност у извођењу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зитивно психолошко делов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spcBef>
                <a:spcPts val="45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се изводе у :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терапеутским базенима и Хабардовим кадама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7AB4-9F52-4BDA-AF14-DCF3047D0B3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Правила за време боравка  у болници и кућ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1.  Ципел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морају бити равне и чврсте</a:t>
            </a:r>
            <a:r>
              <a:rPr b="0" lang="sr-Latn-RS" sz="2000" spc="-1" strike="noStrike">
                <a:solidFill>
                  <a:srgbClr val="40458c"/>
                </a:solidFill>
                <a:latin typeface="Tahoma"/>
              </a:rPr>
              <a:t>;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к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ористити дугачку кашику за обување ципел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2. 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Првих 12 недеља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ацијент се окреће само на здраву страну и при томе користи јастук између ногу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оге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не прекрштати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једну преко друге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е правити екстремне покрете у правцу спољашње и унутрашње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ротациј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Флексија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у куку никада преко 90 степен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бегавати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седењ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на ниским столицама, фотељама и клупам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Самостална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вожња аутомобила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тек после три месец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Бицикл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возити тек у договору са лекаром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бегавати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ношење већих терет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9FC6-531D-43F1-8FEE-6B730F4B338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Компликације тоталне ендопротезе кук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38080" y="14475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ПОСТОПЕРАТИВНЕ ИНФЕ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ПОВРЕДА ПЕРИФЕНИХ НЕРАВА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.ischiadicu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45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3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ОМБОЕМБОЛИЈЕ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(узрок више од 50% постоп морталитета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ПРЕЛОМИ БУТНЕ К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НЕУРОВАСКУЛАРНЕ КОМПЛИК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ЛУКСАЦИЈА ЕНДОПРОТЕ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ПЕРИАРТИКУЛАРНЕ КАЛЦИФИКАЦИЈЕ ИЛИ ЕКТОПИЧНЕ ОСИФИК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РАСКЛИМАВАЊЕ ИЛИ ЛАБАВЉЕЊЕ ЕНДОПРОТЕ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7D0E-83CF-475C-BFDE-42BBA4A8013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НЕУРОВАСКУЛАРНЕ КОМПЛИКАЦИЈ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штеђења кс и нерав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: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.femoralis, n.ischiadicus, n.peroneus, n.obturatorius, n.cutaneus femoris lateral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уролошке комоликације се лече према принципима лечења ПМН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1. 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2. електротерапија (ЕС, ИФС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3. кинезитерапија (према ММ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импулсно магнетно пољ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8F03-D3C4-4800-AE5E-3062E29E9FB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ТРОМБОЕМБОЛИЈСКЕ КОМПЛИКАЦИЈ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1.Тромбоза дубоких вена Д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е најчешће 4-7  постоп д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: бол у нози, повишена лок.температура, повећање обима екстремит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2. Емболија плу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Превенц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1. медикаментозн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2. елевација ДЕ (под углом 30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3. еластични завоји за Д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4. ктх- активне контракције мишић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5. рана мобилизација и вертикализација пацијент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6. ЕС мишића потколенице модулисаним имп.једносмерним струјам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B0EC-24EC-46CA-88E6-B1A69488C25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Луксације ендопротез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ране луксациј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прве 3 недеље, због лабавости везивног ткива око зглоб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асне луксације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након 3-5 недељ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ревенција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избегавати забрањене покрет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јачање ослабљене пелвифеморалне мускулатур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репозиција и гипс имобилизација 4-6 недељ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тога: ктх, ИФС, ИМП, ниске дозе УЗ (0,2-0,8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W/cm²)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396C-61E3-47F8-ACE1-3CA981315EF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1a1d3c"/>
                </a:solidFill>
                <a:latin typeface="Tahoma"/>
              </a:rPr>
              <a:t>Артропласти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1a1d3c"/>
                </a:solidFill>
                <a:latin typeface="Tahoma"/>
              </a:rPr>
              <a:t>Хируршки захват којим се формира зглоб који </a:t>
            </a:r>
            <a:r>
              <a:rPr b="1" lang="sr-RS" sz="2400" spc="-1" strike="noStrike" u="sng">
                <a:solidFill>
                  <a:srgbClr val="1a1d3c"/>
                </a:solidFill>
                <a:uFillTx/>
                <a:latin typeface="Tahoma"/>
              </a:rPr>
              <a:t>функционално и морфолошки </a:t>
            </a:r>
            <a:r>
              <a:rPr b="1" lang="sr-RS" sz="2400" spc="-1" strike="noStrike">
                <a:solidFill>
                  <a:srgbClr val="1a1d3c"/>
                </a:solidFill>
                <a:latin typeface="Tahoma"/>
              </a:rPr>
              <a:t>одговара нормалном зглоб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Доводи до поновног успостављања безболне покретљивости зглоба уз очување његове стабил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1a1d3c"/>
                </a:solidFill>
                <a:latin typeface="Tahoma"/>
              </a:rPr>
              <a:t>Ендопротезе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су зглобови који се уграђују у тело уместо патолошки промењених или уништених зглоб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857D-F7C2-464E-B9B0-235218439AF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Луксација ендопротез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Фактори ризика за луксирање ендопротезе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лоше позиционирње компоненти ендопроте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постериорни хируршки присту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. претходне операције те рег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. слабост певифеморалне мускулатуре (абдукор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5. несарадња са пацијентом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непоштовање забрањених покрет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F0F1-B3DD-4560-8353-5BB9D4A558C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ПЕРИАРТИКУЛАРНЕ КАЛЦИФИКАЦИЈЕ ИЛИ ЕКТОПИЧНЕ ОСИФИКАЦИЈЕ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ериартикуларне калцификације и ектопичне осификације су релативно честа компликација код болесника са уграђеном ендопротезом ку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107C-5B74-47E5-9E2A-24E2AD8438A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РАСКЛИМАВАЊЕ ИЛИ ЛАБАВЉЕЊЕ ЕНДОПРОТЕЗ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Главна касна комплик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9095-C1CA-4DF5-B49A-93B0AAA11EE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РАСКЛИМАВАЊЕ ИЛИ ЛАБАВЉЕЊЕ ЕНДОПРОТЕЗ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едозираност ктх може да доведе до разлабављења; или прекомерно оптерећење и превелика активност пацијен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ревенц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1. контола Т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. смањење физичког оптереће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Водити рачуна о АД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Дг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1-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БОЛ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у оп куку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. РТГ дијагност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3. сцинтиграф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Тх: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хируршка; до тада физикална (ИФС,ИМП,ласертх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1020-780E-412D-83A9-A8CCE211655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РОЦЕНА ФУНКЦИОНАЛНОСТ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ступни тестов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Oxford Hip Score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The McMaster Toronto Arthritis Patient Preference Disability Questionnaire (MACTAR)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Japanese Orthopedic Score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The SF-36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Merle d’Aubigné and Postel Score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The Western Ontario and McMaster Universities Arthritis Index (WOMAC)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Harris Hip Sco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Short Physical Performance Battery (SPPB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97C5-D552-48EB-BAD2-94A2DF1DB82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ЕНДОПРОТЕЗА К</a:t>
            </a:r>
            <a:r>
              <a:rPr b="1" lang="sr-Latn-CS" sz="4800" spc="-1" strike="noStrike">
                <a:solidFill>
                  <a:srgbClr val="0070c0"/>
                </a:solidFill>
                <a:latin typeface="Tahoma"/>
              </a:rPr>
              <a:t>O</a:t>
            </a:r>
            <a:r>
              <a:rPr b="1" lang="sr-RS" sz="4800" spc="-1" strike="noStrike">
                <a:solidFill>
                  <a:srgbClr val="0070c0"/>
                </a:solidFill>
                <a:latin typeface="Tahoma"/>
              </a:rPr>
              <a:t>ЛЕНА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660066"/>
                </a:solidFill>
                <a:latin typeface="Tahoma"/>
              </a:rPr>
              <a:t>КОЛЕНИ ЗГЛОБ</a:t>
            </a:r>
            <a:br>
              <a:rPr sz="3600"/>
            </a:br>
            <a:r>
              <a:rPr b="0" lang="vi-VN" sz="3600" spc="-1" strike="noStrike">
                <a:solidFill>
                  <a:srgbClr val="660066"/>
                </a:solidFill>
                <a:latin typeface="Tahoma"/>
              </a:rPr>
              <a:t> articulatio genu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Најсложенији зглоб у људском тел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Чине га: 1.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  <a:ea typeface="Tahoma"/>
              </a:rPr>
              <a:t> art. femorotibialis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2. 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  <a:ea typeface="Tahoma"/>
              </a:rPr>
              <a:t>art. femoropatellar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   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ател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је највећа сезмоидна кост у људском телу, служи као ослонац за 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m.quadriceps  који је главни активни стабилизатор коленог зглоб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852E-115C-4288-B9DF-4E72B225905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Колени зглоб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Са механичког аспекта  зглоб коле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спада у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једноосовинске зглобов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са великом амплитудом покрета у сагиталној равн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У састав зглоба улазе три кос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фемур са својом доњом епифизом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тибија са горњом епифиз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ате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Зглобна капсула окружује коштане   структуре   колена и веома је битна за стабилност неоптерећеног кол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0B87-63F7-4919-9887-57B110A99EB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ЕНДОПРОТЕЗА КОЛЕНОГ ЗГЛОБ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56400" indent="-3564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Хирушка потпуна или делимична замена зглобног дела коленог зглоб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Индикац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егенеративна болест коленог зглоб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ефомите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Реуматоидни артрити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соријазни артрити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Т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раум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 – повреде коле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Т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умор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D337-F6A4-4E11-9B5B-9351BC98183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ОНТРАИНДИК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ериферна васкуларна боле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Остеомијелити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Локална инфек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овреда кож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Узнапредовала остеопоро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8AE1-EE16-4ED2-BD6F-ECEF228CE37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ЕНДОПРОТЕЗА КУКА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AutoShape 2"/>
          <p:cNvSpPr/>
          <p:nvPr/>
        </p:nvSpPr>
        <p:spPr>
          <a:xfrm>
            <a:off x="1872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  <a:ea typeface="Tahoma"/>
              </a:rPr>
              <a:t>ПОДЕЛА ЕНДОПРОТЕЗА КОЛЕ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рема начину фиксаци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1.цемент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2. бесцемент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од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цементних фиксациј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се врши путем коштаног цемента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(полиметилметакрилат) који ствара чврсти слој између кости и површине ендопротез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Бесцементе протез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мају површину сличну кости (порозну)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  <a:ea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Фиксација је динамичка јер врши стално ремоделирање коштаном изградњом услед оптерећењем насталих микрофракту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D55E-9BB7-441C-892C-32AC2997641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арцијалне ендопротезе коле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ења се или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феморотибијални зглоб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(чешће) или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ателофеморалн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.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од феморотибијалног вештачког зглоба обе компоненте су израђене од метала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  <a:ea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легуре кобалта и хрома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  <a:ea typeface="Tahoma"/>
              </a:rPr>
              <a:t>)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змеђу којих се налази полиетиленски уметак.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ндикациони подручје за парцијалне ендопротезе колена је знатно уж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6F63-6900-4823-B0D7-1F7F99D6B63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  <a:ea typeface="Tahoma"/>
              </a:rPr>
              <a:t>Парцијалне ендопротезе коле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Парцијалне ендопротезе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се уграђују уколико је оштећен само спољашњи или унутрашњи део зглоба, али су остали делови зглоба, првенствено хрскавица, очуван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8C28-5B24-4852-BCA2-77A9BE7F29A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  <a:ea typeface="Tahoma"/>
              </a:rPr>
              <a:t>Парцијалне ендопротезе коле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редности уградње парцијалне ендопротез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мали оперативни рез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мањи губитак крви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мања могућност настанка инфекциј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мање постоперативне тегобе и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3 х краћ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рехабилитациј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7CA0-BD9B-42FB-814E-AE865FA0749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оталне ендопротезе коле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олази до замене целог зглоб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огу бити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бесцементне и цемент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Феморални део протез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је грађен од метала (легуре кобалта  и хрома)који се уграђују на кондиле.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Тибијани део ендопротез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је грађен од метала (најчешће титанијума или легуре кобалта и хрома) док је уложак грађен од полиетиленске пластик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EE09-98A1-4F7F-8BAF-AEE45F38C89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омпликације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За време операције након операције (ране и касне постоперативне компликације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нфе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убоке венске тромбо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ерипротетск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септично разлабављ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нестабилност коленог зглоб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ареза перонеалног нер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54B7-A234-48AB-AE5D-64AD7246538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Индикције за ендопротезу коле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код болесника са јаким боловим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са ограниченом покретљивошћу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лошим квалитетом живот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са узнапредовалом артрозом коленог зглоб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7A5C-65FA-4DB8-8D0D-271DAC9A75C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Ендопротеза коле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Трајање ендопротеза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колена је ограничено због трошења материјал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Износи око 15 годин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Код истрошене ендопротезе јавља се нес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табилнос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AE52-8BDA-4599-B0B6-E256FEA3443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ехабилитација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Циљ је што бржи повратак функције замењеног зглоба и побољшање квалитета живот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Што бржи повратак свакодневним активностима и повратак радним обавезам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507E-B115-4DA6-8442-BF93BBBF10C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ехабилитација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Преоперативна рехабилит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Постоперативна рехабилит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реоперативна рехабилитација проводи се најчешће кроз поступк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еробних вежб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ардио-респираторног тренинг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јачања мишића ГЕ и Д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дукација пацијен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3831-C2B0-4041-B1AB-1EB4545DC4D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Зглоб кука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articulatio coxa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глобне компоненте чин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етабулум (acetabulum) карличне кости (os coxae) и бутна кост (os femoris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глобни делови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facies lunata acetabuli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caput ossis femor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ма велики обим покрета (други са највећом амплитудом покрета, после раменог зглоба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лавни задатак је потпора целој тежини тела током статичких (стајање) и динамичких оптерећења (ходање) као и одржавање равнотеж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1CFF-2EAC-4595-8971-F9136C8EC2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  <a:ea typeface="Tahoma"/>
              </a:rPr>
              <a:t>ЕВАЛУАЦИЈА  ФУНКЦИЈА  ЛОКОМОТОРНОГ  АПАРАТ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ерење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окретљивости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ерење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обима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ерење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ужине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спитивање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функције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ишића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ануелним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ишићним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тестом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МТ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Тестирање способности извођења активности дневнога живота (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ДЖ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нализа постуре тела (процена држањ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нализа (процена) ход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DEB8-CC1D-4862-857D-5D1D99EFA40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ПОСТОПЕРАТИВНА РЕХАБИЛИТАЦИЈ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8380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операције нога се ставља у ПЕНАСТУ ШИНУ у положају екстензије и елева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ДАНА након опер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лексија у колену се дозвољава до 45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кстензија до пуног об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цијенту се дозвољава да седи на ивици крев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ДА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цијент почиње да стоји поред крев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80000"/>
              </a:lnSpc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5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478B-C40D-4833-82FB-BD3ABA8DFD3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ПОСТОПЕРАТИВНА РЕХАБИЛИТАЦИЈ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III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ДА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звољава се ход са подпазушним штак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лексија до 90⁰ у пенастој шин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ДА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же се користити масажа и термотерапијске процедур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4. до 5. дана поставља се МОТОРИЧКА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ШИН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енинг јачања  мускулатуре  спроводи  се  по  престанку  запаљења  и болова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7C2D-8CB0-4926-AD51-629ACB00534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660066"/>
                </a:solidFill>
                <a:latin typeface="Tahoma"/>
              </a:rPr>
              <a:t>Рехабилитација</a:t>
            </a: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оп треба добити пуну екстензију и јачати мишиће  стабилизаторе. Најзначајније је јачање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quadriceps femoris-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 почетку се јача изометријским вежб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физикалних агенаса се корист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кри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ИФ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ласе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ИМ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У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КТ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0F01-41C2-428C-A6A7-40E11C4DAD8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  <a:ea typeface="Tahoma"/>
              </a:rPr>
              <a:t>Болесници са протезом колена морају избегавати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  <a:ea typeface="Tahoma"/>
              </a:rPr>
              <a:t>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1.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 скакање са било каквих висин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2.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клечање на оперисаном колен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3.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ношење тешких предмет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4.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ходање узбрдо и по клизавом тл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5.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морају под контролом имати своју 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TT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BBBA-3536-4964-8531-5D2EA73863A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70c0"/>
                </a:solidFill>
                <a:latin typeface="Tahoma"/>
                <a:ea typeface="Times New Roman"/>
              </a:rPr>
              <a:t>ЕНДОПРОТЕЗА</a:t>
            </a:r>
            <a:r>
              <a:rPr b="1" lang="en-US" sz="4400" spc="-1" strike="noStrike">
                <a:solidFill>
                  <a:srgbClr val="0070c0"/>
                </a:solidFill>
                <a:latin typeface="Tahoma"/>
                <a:ea typeface="Times New Roman"/>
              </a:rPr>
              <a:t>  </a:t>
            </a:r>
            <a:r>
              <a:rPr b="1" lang="sr-RS" sz="4400" spc="-1" strike="noStrike">
                <a:solidFill>
                  <a:srgbClr val="0070c0"/>
                </a:solidFill>
                <a:latin typeface="Tahoma"/>
                <a:ea typeface="Times New Roman"/>
              </a:rPr>
              <a:t>РАМЕНОГ</a:t>
            </a:r>
            <a:r>
              <a:rPr b="1" lang="en-US" sz="4400" spc="-1" strike="noStrike">
                <a:solidFill>
                  <a:srgbClr val="0070c0"/>
                </a:solidFill>
                <a:latin typeface="Tahoma"/>
                <a:ea typeface="Times New Roman"/>
              </a:rPr>
              <a:t> </a:t>
            </a:r>
            <a:r>
              <a:rPr b="1" lang="sr-RS" sz="4400" spc="-1" strike="noStrike">
                <a:solidFill>
                  <a:srgbClr val="0070c0"/>
                </a:solidFill>
                <a:latin typeface="Tahoma"/>
                <a:ea typeface="Times New Roman"/>
              </a:rPr>
              <a:t>ЗГЛОБА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Рамени зглоб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раменом зглобу узглобљују се велика, кугласта глава хумеруса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caput humer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), усмерена према горе, назад и унутра  мала, елипсоидна и плитка површи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капуле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cavitas glenoidalis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) усмерена напред и латералн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лава хумеруса је три пут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ћа од површине гленоид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4D6E-D35F-45AA-AB72-74666A3FA3E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Индикације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9907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427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падање раменог зглоба због артрозе (остеоартритис)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уматоидног артритис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оше санираног прелом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тенекрозе главе хумерус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ртропатије као последица масивне руптуре ротаторне манжет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кука и колена раме је трећи зглоб по учесталости уградње вештачког зглоб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96BE-A32C-457F-A6CC-BEBAE587D58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омпликације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ке од компликација које се могу појавити након уградње ендопротезе рамена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 инфекциј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дислокациј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лабављење компоненте протезе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перипротетична хумерална и гленоидална фрактур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повреде нерав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ектопична осификац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9FE5-2562-4F4F-8089-FD329E236D7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Ендопротезе раме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ротезе рамена можемо поделити у 3 групе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а. парцијалне протез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б. потпуне протез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ц. обрнуте, реверзне протезе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3806-26B0-414A-BE4D-93323300C3B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Ендопротеза ку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6176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веће достигнуће у историји ортопедије –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градња тоталне ендопротезе кук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ва протеза је уграђена 1890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едан од најчешћих хирушких захвата у свет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рој уграђених расте из године у годин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перације трају све краћ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к трајања протезе је све дужи (све бољи материјали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ве краћа рехабилит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на функционалност пацијен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2AC9-28EB-4A52-9007-DF7764DEFE2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арцијална ендопротеза раме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3808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. Парцијална протеза рамена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хемиартропластика рамена), замењује се само горњи део (глава) хумеруса а део лопатице (гленоид) остаје непромење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BED0-81E9-4E9A-9BD9-7689D533DF6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Тотална ендопротеза раме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ликом уградње потпуне протезе рамена уз мењање надлакатног дела кости мења се и гленоидални део лопатиц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лови протезе долазе у различитим величинама и могу бити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цементне и безцементне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97E3-9F5D-455D-BD46-575E3AC1DD8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Обрнута протеза раме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837720" y="16765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рнута протеза рамена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ристи се након неуспеле уградње парцијалне или потпуне протезе рамена, као и код руптуре ротаторне манжете и нестабилности зглоб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0F72-EA96-4CFF-9699-4141AE65FB4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Рехабилитација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виси од врсте уграђене протезе и стања раменог зглоба, првенствено мишића ротаторне маншет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ле операције се добије ортоза која се састоји од рукава (слинг) и абдукцијског јасту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ртоза се носи четири недеље током којих пацијент скида ортозу и пасивно разгибава руку према упутствима од старне лекара и физиотерапеу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тивно подизање руке почиње 6 недеље након операције а јачање мишића 2 месеца после ОП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тпуни опоравак може потрајати и до 1-2 годи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9C1A-4D92-47C7-8214-1971069FECE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онтраиндиковани покрети у прве 3 недеље након ОП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1. Унутарња ротација надлактице с руком    постављеном иза леђ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. Комбиновани покрети испред те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(унутарња ротација,флексија и адукц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3. Хиперекстензија надлакт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B688-BFC8-4224-A7C6-990C8BF12F0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РИ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ТЕРАПИЈА( ИФС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МП (НИСКОФРЕКВ. И ВИСОКОФРЕКВ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ОТЕРАП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ИОСТИМ. ЛАСЕ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ИНЕЗИ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7F7E-5BFE-48AB-AB6D-1757BF597C2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ехабилитација 1-3 недеље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Ортоза за рам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ктивна мобилизација шаке и подлакт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ендуларне вежбе оперисане ру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зометријске вежбе стабилизатора лопат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зометријске вежбе јачања свих мишићних група (опрезније с унутарњим ротаторим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7620-3408-4265-8DBB-3FDE449BD42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ехабилитација 1-3 недеље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сивна унутрашња рот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граничена спољашња ротација 20-так 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тивно-потпомогнут покрет са прогресијом из лежећег у седећи положожај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ристити руку у оквиру АДЖ колико је могућ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3D7C-1556-4816-9899-16301F18538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ехабилитација 3-6 недељ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огресија спољашње ротације до пуног об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тпомогнута унутрашња рот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асивна флексија пуног обима (4 недељ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дстицати АКТИВНИ покрет у свим равнима</a:t>
            </a:r>
            <a:br>
              <a:rPr sz="2400"/>
            </a:b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(изнад нивоа рамена !!!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зометријске вежбе свих мишићних груп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огресија изотоничких вежби покрет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F592-C974-4A18-B9E0-11BCEBEEA4B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ехабилитација након 6 недељ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КТИВНИ покрет до анатомског 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 свим равнин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Вежбе снаге додавањем оптереће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Већи број понављања вежби (издржљивос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Вежбе координ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кон завршене рехабилитације и повратку АДЖ, није дозвољено носити тежину већу од 3  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</a:rPr>
              <a:t>kg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у оперисаној руци 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A339-6127-4005-A067-2F1A4597791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808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</a:rPr>
              <a:t>ПАРЦИЈАЛНА ЕНДОПРОТЕЗ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</a:rPr>
              <a:t>ТОТАЛНА ЕНДОПРОТЕЗ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B6F6-3F1F-41F5-AA9F-F9DED300274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0c0"/>
                </a:solidFill>
                <a:latin typeface="Tahoma"/>
              </a:rPr>
              <a:t>ФИЗИКАЛНА ТЕРАПИЈА НАКОН ОПЕКОТИ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Опекотин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услед дејства топлотне Е (сува или влажна топлота), електрична струја, радиоактивног зрачења или хемијских једиње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оплота делује тако што доводи до денатурације протеина у ћелијама, које оштећује или уништа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4001-C8A0-4339-AEAC-D2FC7794C74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ahoma"/>
              </a:rPr>
              <a:t>Опекотин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зависности од дубине оштећења коже и ткив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први степен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combustio erythemato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2. други  степен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– combustio bulo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3. трећи степен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– combustio escharoti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4. четврти степен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арбониз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6BD8-56F0-48B9-9C7F-A58FD56BE80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Опекотине</a:t>
            </a:r>
            <a:r>
              <a:rPr b="1" lang="sr-Latn-CS" sz="3600" spc="-1" strike="noStrike">
                <a:solidFill>
                  <a:srgbClr val="0070c0"/>
                </a:solidFill>
                <a:latin typeface="Tahoma"/>
              </a:rPr>
              <a:t> 1</a:t>
            </a: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.</a:t>
            </a:r>
            <a:r>
              <a:rPr b="1" lang="sr-Latn-CS" sz="36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степена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. степен опекотин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клинички се карактерише постојањем еритема, едема коже и бола средњег интензит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 пр.опекотине настале сунчање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онтано пролази за 2-3 д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4527-0630-4EB9-A9E4-69000147228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Опекотине  2. степена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ПОВРШ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оштећен је само епидерм, еритем, пликови, (буле), различитих величина, испуњене бистром тешношћ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2.ДУБОК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: деструкција епидерма и површних слојева дерма. Интензиван бол, кожа је едематозна, покривена пликов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B150-3FD6-4690-95B2-A5B13114DEE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Опекотине 3. и 4.степе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3. степен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некроза целе дебљине коже, сви елементи су уништени. Кожа је сува, мрко пепељаста. Нема спонтане регенерације, неосетљивост на бол (уништени нервни завршеци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4. степен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карактерише се карбонификацијом ткива у свим слојев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8F48-985E-48E3-81F5-83152B129A3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Рехабилитација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пекотине доводе до настанка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онтрактур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проблематични су лице, врат, аксила, ру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ahoma"/>
              </a:rPr>
              <a:t>Циљ рехабилитац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је спречавање или максимално умањење последица контракције ожиљка и превенција настанка контракту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 настанку опекотина код пацијената у критичном стању: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циљеви су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ксимално лимитирати губитак покретљивости, смањење едема и превенција контрактура кроз вежбе обима покрета, позиционирање и употреба ортоз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сивне вежбе се раде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2х дневн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уз опрез због бола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имски рад и сарадња са пацијент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FC30-0CA9-4DE6-9521-06EE1DE0C9E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Фазе рехабилитац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акутној фази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 даје нагласак на превенци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глобних контрактур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краћења миофасцијалног ткив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мпликација респираторног система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мањивању еде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убакутној фази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 циљеви односе 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мишићног тонус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туралне адаптације као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тивностима свакодневног живо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3C86-318C-4C05-AB02-FD09932B4C5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Фазе рехабилитац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Хронична фаз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е усмерена на смањивање последица ожиљног ткива, лечење последица оштећења неуролошког и локомоторног система, повратак пацијента друштвеном животу, породици и радној средин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Контраиндикације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за физикалну терапију с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оше оп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ште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тање болесник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сађивање коже (потребно 5-10 дана мировања)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вреда мишића или тетив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0898-F0D5-455F-84B8-2E0527447CF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Рехабилитација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621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РИНЦИП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РАНА РЕХАБИЛИТ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ТИМСКИ РА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70c0"/>
                </a:solidFill>
                <a:uFillTx/>
                <a:latin typeface="Tahoma"/>
              </a:rPr>
              <a:t>РАНИ ФИЗИКАЛНИ ТРЕТМА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1. превенција плућних компликација дисајним вежб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2. превенција тромбофлебита дубоких в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3. превенција плућне ембол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4. превенција декуби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5. превенција контрактуре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6. превенција хипотрофије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98A8-DADE-4B70-BA71-3742B672FE9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ПАРЦИЈАЛНА ЕНДОПРОТЕЗА 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КУК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рушка интервенција којом се замењује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феморална компонент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глоба ку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дразумева уградњу феморалне протезе, без замене ацетабулане компоненте зглоб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редност парцијалне над тоталном ендопротезом је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ћа стаб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ност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раће време трајања операције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3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њи губитак крв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2490-AA29-430F-B1A3-880CF323EF2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Рана рехабилитац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У рану рехабилитацију спад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превенција контрактур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превенција хипотрофија мишић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. превенција респираторних и циркулаторних компликациј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. превенција лимфедем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5. превенција појаве декубиту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942D-0AE0-49C9-AFDE-EA7A0BD49DC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ана рехабилитац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роводи се на болничком одељењу на кревет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олесни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реба је започети што пре и дужина зависи од опекоти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Кинезиотерап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започиње у првих 24-48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проводи се 2-4 х дневно као активне и активно-потпомогнуте вежбе свих захваћених зглобова и вежбе свих осталих делова те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Хидрокинезит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рап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започиње 5 дана нако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рансплантације кож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7608-68B2-4E46-951F-001AE300F8B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Позиционирање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Захваћени зглоб се поставља у положај који ће касније обезбедити најбољу могућу функц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70c0"/>
                </a:solidFill>
                <a:uFillTx/>
                <a:latin typeface="Tahoma"/>
              </a:rPr>
              <a:t>Врат:</a:t>
            </a:r>
            <a:r>
              <a:rPr b="0" lang="sr-RS" sz="2400" spc="-1" strike="noStrike" u="sng">
                <a:solidFill>
                  <a:srgbClr val="0070c0"/>
                </a:solidFill>
                <a:uFillTx/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екстендиран, 180⁰ глава у односу на труп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ајчешће се корист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омасова шина, ако ј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могуће да с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е угрози цирулација и дисање обезбедити известан степен компресије, тиме се спречава бујање везивног ткива 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тварање ожиљ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длаге се скидају током спровођења ктх, и тоалете током 6 месеци, након тога се носи ноћ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3404-35F4-4852-B0F5-79A61E38ABE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Позиционирањ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70c0"/>
                </a:solidFill>
                <a:uFillTx/>
                <a:latin typeface="Tahoma"/>
              </a:rPr>
              <a:t>Грудни кош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 рамена у ретракцији и екстенираним врат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70c0"/>
                </a:solidFill>
                <a:uFillTx/>
                <a:latin typeface="Tahoma"/>
              </a:rPr>
              <a:t>Аксила</a:t>
            </a:r>
            <a:r>
              <a:rPr b="0" lang="sr-RS" sz="2400" spc="-1" strike="noStrike" u="sng">
                <a:solidFill>
                  <a:srgbClr val="0070c0"/>
                </a:solidFill>
                <a:uFillTx/>
                <a:latin typeface="Tahoma"/>
              </a:rPr>
              <a:t>: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надлактице у положај абдукциј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 раменом зглобу под углом од 90⁰ у односу на грудни кош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70c0"/>
                </a:solidFill>
                <a:uFillTx/>
                <a:latin typeface="Tahoma"/>
              </a:rPr>
              <a:t>Лакатни зглоб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 предња страна- лакат у лакој флексији, опекотине задње стране лакат у екстензији 180⁰ са елевацијом и супинациј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70c0"/>
                </a:solidFill>
                <a:uFillTx/>
                <a:latin typeface="Tahoma"/>
              </a:rPr>
              <a:t>Ручни зглоб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 предња страна опекотине - екстензија 45⁰ уз елевацију, задња страна у умереној флексиј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A1B3-2A92-40BF-A859-898CBD940F0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Позиционирањ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Tahoma"/>
              </a:rPr>
              <a:t>Шака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дорзалне захваћености палац у максималној флексији у МЦП зглобовима, екстензиј у ИФ зглобовима. Опекотине на палмарној страни прсти у максималној екстензији и абдукциј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Tahoma"/>
              </a:rPr>
              <a:t>Кук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абдукција од 15⁰ и 180⁰ однос кука према осовини те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Tahoma"/>
              </a:rPr>
              <a:t>Колен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предња страна- флексија 15⁰ , задња страна екстензија 180⁰ уз елевац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Tahoma"/>
              </a:rPr>
              <a:t>Скочни зглоб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опало у односу на потколеницу под углом 90⁰ уз елевац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Tahoma"/>
              </a:rPr>
              <a:t>Стопал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под правим углом у односу на потколениц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3EFB-BB34-4C81-BAC9-C2AFCCBF90C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Кинезитерапија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ајне вежбе:костодијафрагмалног дис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зиране вежбе: статичким контракцијама захваћеног сегмен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тивне вежбе, активно-потпомогнуте и пасивне до границе бола и границе физиолошке покретљивост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зиционирање ортозама-сплинтови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7E5B-28D3-426B-B207-467253A6A86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Хидрокинезитерапија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почиње се када је дошло до епителиз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Дејств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Чишћење опечене рег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кше скидање адхезивних заво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вид у стање ра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ње епителиз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ћи степен покретљивости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лакшање извођења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B2FA-6B37-454F-9A7C-7C9A2B174E4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Хидрокинезитерапија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838080" y="19051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онтраиндикаци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хемодинамска нестабил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свеже графтовање регије (испод 7 да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апликовани адхезивни биолошки заво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употреба лекова за релаксацију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телесна темпратура испод 36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мпература топле диферентне зоне од 37⁰ до 40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воду се додаје антисептични раствор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х дневно, 10-40 ми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163D-0DCD-41FA-94C7-29ECC7B6D71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Рехабилитација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сна рехабилитација је наставак ране рехабилитације и осим кинезитерапије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изикалне терапије проводи се и едукација за АДЖ и као радна терап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роводи се након болничког лече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мбулантно или у специјализованим установа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е се сусрећемо с </a:t>
            </a: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контрактур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Терап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дразумева лечење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контрактур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хипертрофичних ожиљак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. лезије нера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2D76-0BE0-4C80-9680-FD76027B098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Физикални агенси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риомасаж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нуелна масаж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рафин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 КЈ или Тиомука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5141-8491-476C-994C-9852B7941F1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ОТАЛНЕ ЕНДОПРОТЕЗЕ КУ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њају се обе компоненте зглоб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феморалн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има главу, врат и тел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2. ацетабуларна компонента ендопротез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садржи лежиште ацетабулума и чашиц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BDCA-853F-4CFA-8DF6-E5C242E792E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Исход рехабилитације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Повратак на посао пацијен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Промена радног мес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Трајно неспособни пацијенти за ра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Несамостални за АД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0199-E2BB-473C-B9D4-2405D83B5FD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3T09:44:55Z</dcterms:modified>
  <cp:revision>947</cp:revision>
  <dc:subject/>
  <dc:title>Rehabilitacija traumatoloških bolesnika</dc:title>
</cp:coreProperties>
</file>